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1374-AFA4-4167-B4C1-78C379EA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D99B-1C46-498D-A82D-1B4348DB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1E0A-923F-4B6D-976E-B3277ADE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6E85-06B8-433D-AD6F-63BB1E09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EB10-96E5-4188-8790-2E2A3AC9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349D-E41F-49AE-9315-32D01C1F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329B-38DE-4679-8F33-0AB72718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1AB2-C265-44FC-A97F-5388608D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B8E7-3740-404B-925F-B5908709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5C96-3D32-4E11-9A79-12BE5B82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7B59-3C1F-4F1B-AB16-DC6D1055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9311-1EDF-4AF6-A0D3-39E763DE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3585-A5BB-4C98-9FAF-9907152D4807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000000"/>
                </a:solidFill>
                <a:latin typeface="Calibri"/>
              </a:rPr>
              <a:t>Demographic Transition Model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relationship between birth rate and death rate has been used to create a four stage model of a country's population change, called the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demographic model.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ountries which are described as being developed have reached Stage 4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UK is one of these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Other countries are at different stages of their development, and therefore occupy different places on the model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tag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birth rate (BR) and high death rate (DR), both around 35 per 1000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means a relatively slow population growth. High BR due to no contraception and the need for large famil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BR due to diseases, poor health care, poor water quality, and a poor food supp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K was at this stage in the period up to 1750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a few remote indigenous tribes, in places such as the Amazon rainforest, exhibit these characteristics nowaday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tag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BR remains high, at around 35 per 1000, but DR falls to about 20 per 1000 by the end of the stage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DR falls due to improvements in health care, sanitation and water quality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re is also increased access to medicines and food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UK was in this period between 1750 and 1880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ountries such as Bangladesh, Libya and Nigeria are currently in this stage of their development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tag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 falls rapidly to near 20 per 1000, and DR continues to slowly fall to around 15 per 10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all in the BR is due to better access to contraception, more family planning education, working women getting married and having children later, less need for children as a labour sour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 continues to fall as health care improves further, and sanitation conditions improv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K was in this stage between 1880 and 1950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ries passing through this stage at present include China and Argenti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tag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R and DR low, at under 10 per 1000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lthough there may be some annual fluctuations population growth is close to zero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UK is in this stage at the moment, along with countries such as the United States and Japa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tage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t has been suggested that a new fifth stage should be added to the model, due to some countries, such as Sweden and France, having higher DR than BR, so that their populations are actually fall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hs-geography.ism-online.org/files/2010/09/demographic_transition_detailed.jpg"/>
          <p:cNvPicPr/>
          <p:nvPr/>
        </p:nvPicPr>
        <p:blipFill>
          <a:blip r:embed="rId1"/>
          <a:stretch/>
        </p:blipFill>
        <p:spPr>
          <a:xfrm>
            <a:off x="-14400" y="0"/>
            <a:ext cx="914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3:51:01Z</dcterms:created>
  <dc:creator>Dell_02</dc:creator>
  <dc:description/>
  <dc:language>en-US</dc:language>
  <cp:lastModifiedBy>Dell_02</cp:lastModifiedBy>
  <dcterms:modified xsi:type="dcterms:W3CDTF">2011-01-25T04:03:02Z</dcterms:modified>
  <cp:revision>2</cp:revision>
  <dc:subject/>
  <dc:title>Demographic Transition Model</dc:title>
</cp:coreProperties>
</file>